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20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334500" cy="723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17520" y="685440"/>
            <a:ext cx="4422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BA3C-BA34-455E-AA34-D4EBC393607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17520" y="685800"/>
            <a:ext cx="442296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716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412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0020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716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412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6680" y="795240"/>
            <a:ext cx="840240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亚光内容(白)2"/>
          <p:cNvPicPr/>
          <p:nvPr/>
        </p:nvPicPr>
        <p:blipFill>
          <a:blip r:embed="rId3"/>
          <a:stretch/>
        </p:blipFill>
        <p:spPr>
          <a:xfrm>
            <a:off x="0" y="0"/>
            <a:ext cx="9334440" cy="7238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7000"/>
          </a:bodyPr>
          <a:p>
            <a:pPr marL="344880" indent="-3448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876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7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0"/>
            <a:ext cx="9334440" cy="884160"/>
          </a:xfrm>
          <a:prstGeom prst="rect">
            <a:avLst/>
          </a:prstGeom>
          <a:gradFill rotWithShape="0">
            <a:gsLst>
              <a:gs pos="0">
                <a:srgbClr val="bbe0e3">
                  <a:alpha val="60000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57103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0" y="6675480"/>
            <a:ext cx="9334440" cy="563400"/>
          </a:xfrm>
          <a:prstGeom prst="rect">
            <a:avLst/>
          </a:prstGeom>
          <a:blipFill rotWithShape="0">
            <a:blip r:embed="rId4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0" y="642960"/>
            <a:ext cx="5056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0" y="62737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5288040" y="6586560"/>
            <a:ext cx="4046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jpeg"/><Relationship Id="rId3" Type="http://schemas.openxmlformats.org/officeDocument/2006/relationships/slide" Target="slide10.xm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2179800"/>
            <a:ext cx="933444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黑体"/>
              </a:rPr>
              <a:t>第十四章  遗传与内分泌疾病患儿的护理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290680" y="4267080"/>
            <a:ext cx="511200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华北理工大学护理与康复学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张 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9"/>
          <p:cNvSpPr/>
          <p:nvPr/>
        </p:nvSpPr>
        <p:spPr>
          <a:xfrm>
            <a:off x="0" y="301932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0"/>
          <p:cNvSpPr/>
          <p:nvPr/>
        </p:nvSpPr>
        <p:spPr>
          <a:xfrm>
            <a:off x="0" y="304488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4680" y="1608120"/>
            <a:ext cx="8167680" cy="49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细胞遗传学特征是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呈三体型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机制：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生殖细胞在减数分裂形成配子时；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受精卵在有丝分裂时，受理化因素影响，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号不能均匀分离到另一个细胞，使胚胎体细胞内存在一条额外的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6OY7M[%D5WCYOKEMS01BF@7"/>
          <p:cNvPicPr/>
          <p:nvPr/>
        </p:nvPicPr>
        <p:blipFill>
          <a:blip r:embed="rId1"/>
          <a:stretch/>
        </p:blipFill>
        <p:spPr>
          <a:xfrm>
            <a:off x="0" y="1035000"/>
            <a:ext cx="91137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5720" y="503280"/>
            <a:ext cx="4200480" cy="1387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44520" y="1337760"/>
            <a:ext cx="8089920" cy="1568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标准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2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个额外的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色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50800" y="2630520"/>
            <a:ext cx="8012160" cy="4181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417840" y="274680"/>
            <a:ext cx="3014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~lwf0002"/>
          <p:cNvPicPr/>
          <p:nvPr/>
        </p:nvPicPr>
        <p:blipFill>
          <a:blip r:embed="rId2"/>
          <a:stretch/>
        </p:blipFill>
        <p:spPr>
          <a:xfrm>
            <a:off x="550800" y="2708280"/>
            <a:ext cx="7934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4680" y="1035000"/>
            <a:ext cx="4122720" cy="573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520" y="1871280"/>
            <a:ext cx="4557600" cy="488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易位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6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-14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4q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1q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染色体总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，但缺少一条正常的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染色体代之以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长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成的易位染色体，其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体，仍具三体性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965840" y="958680"/>
            <a:ext cx="4368600" cy="296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960800" y="4000680"/>
            <a:ext cx="4373640" cy="285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3638520" y="200160"/>
            <a:ext cx="20368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4680" y="199800"/>
            <a:ext cx="4356000" cy="1971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2309400"/>
            <a:ext cx="7502400" cy="2995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6000"/>
          </a:bodyPr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嵌合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)+21/4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Y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内有两种或两种以上的细胞株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株正常，一株为唐氏细胞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是受精卵在早期分裂过程中染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不分离所引起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040640" y="158760"/>
            <a:ext cx="1195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71400" y="-360"/>
            <a:ext cx="435636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2320" y="955440"/>
            <a:ext cx="7748640" cy="3087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特殊面容（特征性表现）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眼距宽、眼裂小、两眼外侧上斜，鼻梁低、鼻子短、鼻孔上翘，嘴小、唇厚、口半开、舌厚常伸出口外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ri21pho1"/>
          <p:cNvPicPr/>
          <p:nvPr/>
        </p:nvPicPr>
        <p:blipFill>
          <a:blip r:embed="rId1"/>
          <a:stretch/>
        </p:blipFill>
        <p:spPr>
          <a:xfrm>
            <a:off x="1652760" y="4227480"/>
            <a:ext cx="4983120" cy="262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1"/>
          <p:cNvPicPr/>
          <p:nvPr/>
        </p:nvPicPr>
        <p:blipFill>
          <a:blip r:embed="rId2"/>
          <a:srcRect l="7978" t="3518" r="10014" b="10815"/>
          <a:stretch/>
        </p:blipFill>
        <p:spPr>
          <a:xfrm>
            <a:off x="4519440" y="4227480"/>
            <a:ext cx="272124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22440" y="958680"/>
            <a:ext cx="8167680" cy="4672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463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CN" sz="3900" spc="-1" strike="noStrike">
                <a:solidFill>
                  <a:srgbClr val="ff0000"/>
                </a:solidFill>
                <a:latin typeface="宋体"/>
                <a:ea typeface="宋体"/>
              </a:rPr>
              <a:t>智能低下（最主要）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随年龄增大而逐渐明显，智商通常在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之间。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711600" y="200160"/>
            <a:ext cx="31878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5099040" y="958680"/>
            <a:ext cx="3571560" cy="2660760"/>
            <a:chOff x="5099040" y="958680"/>
            <a:chExt cx="3571560" cy="2660760"/>
          </a:xfrm>
        </p:grpSpPr>
        <p:pic>
          <p:nvPicPr>
            <p:cNvPr id="132" name="Picture 4" descr="tri21pho1"/>
            <p:cNvPicPr/>
            <p:nvPr/>
          </p:nvPicPr>
          <p:blipFill>
            <a:blip r:embed="rId1"/>
            <a:stretch/>
          </p:blipFill>
          <p:spPr>
            <a:xfrm>
              <a:off x="5137200" y="958680"/>
              <a:ext cx="3533400" cy="26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downs"/>
            <p:cNvPicPr/>
            <p:nvPr/>
          </p:nvPicPr>
          <p:blipFill>
            <a:blip r:embed="rId2"/>
            <a:stretch/>
          </p:blipFill>
          <p:spPr>
            <a:xfrm>
              <a:off x="5099040" y="958680"/>
              <a:ext cx="1869480" cy="266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6"/>
          <p:cNvSpPr/>
          <p:nvPr/>
        </p:nvSpPr>
        <p:spPr>
          <a:xfrm>
            <a:off x="838080" y="1819440"/>
            <a:ext cx="3520800" cy="28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皮纹特点</a:t>
            </a:r>
            <a:br>
              <a:rPr sz="3700"/>
            </a:b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通贯手</a:t>
            </a:r>
            <a:br>
              <a:rPr sz="2900"/>
            </a:br>
            <a:r>
              <a:rPr b="1" lang="en-US" sz="19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atd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角增大（大于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,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桡侧箕形纹增多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只有一条指褶纹等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21三体9"/>
          <p:cNvPicPr/>
          <p:nvPr/>
        </p:nvPicPr>
        <p:blipFill>
          <a:blip r:embed="rId3"/>
          <a:stretch/>
        </p:blipFill>
        <p:spPr>
          <a:xfrm>
            <a:off x="5243400" y="958680"/>
            <a:ext cx="3908520" cy="494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g"/>
          <p:cNvPicPr/>
          <p:nvPr/>
        </p:nvPicPr>
        <p:blipFill>
          <a:blip r:embed="rId4"/>
          <a:stretch/>
        </p:blipFill>
        <p:spPr>
          <a:xfrm>
            <a:off x="5172120" y="958680"/>
            <a:ext cx="4162320" cy="628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~AUT0007"/>
          <p:cNvPicPr/>
          <p:nvPr/>
        </p:nvPicPr>
        <p:blipFill>
          <a:blip r:embed="rId5"/>
          <a:stretch/>
        </p:blipFill>
        <p:spPr>
          <a:xfrm>
            <a:off x="5172120" y="882720"/>
            <a:ext cx="416232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6200" y="502920"/>
            <a:ext cx="8323560" cy="5529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生长发育迟缓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出生时体重和身长偏低，肌张力低下，以后体格发育、语言发育、动作发育均较同龄小儿落后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659040" y="306360"/>
            <a:ext cx="31086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50800" y="503280"/>
            <a:ext cx="8323200" cy="5300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伴发畸形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1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50%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伴有先天性心脏病，其次是消化道畸形。先天性甲低及急性淋巴细胞白血病的发病率高于正常人群；免疫功能低下，易患各种感染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006800" y="122400"/>
            <a:ext cx="260496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714680" y="5348160"/>
            <a:ext cx="63370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最常见的伴发器官畸形：心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99840" y="723600"/>
            <a:ext cx="30337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Arial"/>
              </a:rPr>
              <a:t>诊断</a:t>
            </a:r>
            <a:endParaRPr b="1" i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7040" y="1890720"/>
            <a:ext cx="7467840" cy="3403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5000"/>
          </a:bodyPr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染色体核型分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最具有确诊意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子细胞遗传学检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FISH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技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7520" y="1049400"/>
            <a:ext cx="8231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   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2070000" y="2430360"/>
            <a:ext cx="469800" cy="395280"/>
            <a:chOff x="2070000" y="2430360"/>
            <a:chExt cx="469800" cy="395280"/>
          </a:xfrm>
        </p:grpSpPr>
        <p:sp>
          <p:nvSpPr>
            <p:cNvPr id="58" name="AutoShape 4"/>
            <p:cNvSpPr/>
            <p:nvPr/>
          </p:nvSpPr>
          <p:spPr>
            <a:xfrm>
              <a:off x="2073600" y="24368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5"/>
            <p:cNvSpPr/>
            <p:nvPr/>
          </p:nvSpPr>
          <p:spPr>
            <a:xfrm>
              <a:off x="2070000" y="24303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6"/>
            <p:cNvSpPr/>
            <p:nvPr/>
          </p:nvSpPr>
          <p:spPr>
            <a:xfrm>
              <a:off x="2097000" y="24537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7"/>
          <p:cNvSpPr/>
          <p:nvPr/>
        </p:nvSpPr>
        <p:spPr>
          <a:xfrm>
            <a:off x="2003400" y="2432160"/>
            <a:ext cx="5763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2070000" y="28875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146320" y="2887560"/>
            <a:ext cx="3538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2070000" y="3344760"/>
            <a:ext cx="469800" cy="395280"/>
            <a:chOff x="2070000" y="3344760"/>
            <a:chExt cx="469800" cy="395280"/>
          </a:xfrm>
        </p:grpSpPr>
        <p:sp>
          <p:nvSpPr>
            <p:cNvPr id="65" name="AutoShape 11"/>
            <p:cNvSpPr/>
            <p:nvPr/>
          </p:nvSpPr>
          <p:spPr>
            <a:xfrm>
              <a:off x="2073600" y="33512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12"/>
            <p:cNvSpPr/>
            <p:nvPr/>
          </p:nvSpPr>
          <p:spPr>
            <a:xfrm>
              <a:off x="2070000" y="33447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13"/>
            <p:cNvSpPr/>
            <p:nvPr/>
          </p:nvSpPr>
          <p:spPr>
            <a:xfrm>
              <a:off x="2097000" y="33681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4"/>
          <p:cNvSpPr/>
          <p:nvPr/>
        </p:nvSpPr>
        <p:spPr>
          <a:xfrm>
            <a:off x="2146320" y="3344760"/>
            <a:ext cx="3524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2529000" y="3726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2529000" y="3267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2529000" y="28098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990880" y="2333520"/>
            <a:ext cx="453528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rmAutofit/>
          </a:bodyPr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唐氏综合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苯丙酮尿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天性甲状腺功能减低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2070000" y="38019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1995480" y="4000680"/>
            <a:ext cx="4874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2147400" y="3763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>
            <a:off x="2506680" y="412416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own syn 3"/>
          <p:cNvPicPr/>
          <p:nvPr/>
        </p:nvPicPr>
        <p:blipFill>
          <a:blip r:embed="rId1"/>
          <a:stretch/>
        </p:blipFill>
        <p:spPr>
          <a:xfrm>
            <a:off x="1866960" y="2173320"/>
            <a:ext cx="5600520" cy="39402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411280" y="1125360"/>
            <a:ext cx="458964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ISH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唐氏综合征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78400" y="642600"/>
            <a:ext cx="49003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6200" spc="-1" strike="noStrike">
                <a:solidFill>
                  <a:srgbClr val="000000"/>
                </a:solidFill>
                <a:latin typeface="Arial"/>
              </a:rPr>
              <a:t>遗传咨询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2160" y="1947600"/>
            <a:ext cx="7934400" cy="498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的估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标准型：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G/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绝大多数为散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1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7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7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治疗要点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00200" y="241632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目前无特效治疗方法。主要是加强护理，防治各种感染，针对性地进行智力和劳动技能训练，使其能够自食其力地生活，辅助以</a:t>
            </a:r>
            <a:r>
              <a:rPr b="1" lang="el-GR" sz="2400" spc="-1" strike="noStrike">
                <a:solidFill>
                  <a:srgbClr val="000000"/>
                </a:solidFill>
                <a:latin typeface="华文中宋"/>
              </a:rPr>
              <a:t>γ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氨基酸和维生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06320" y="181944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自理缺陷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智能低下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儿童患严重疾病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知识缺乏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患儿家长缺乏遗传病的相关认识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3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页脚占位符 4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649440" y="1855800"/>
            <a:ext cx="3728880" cy="1585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204f3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844560" y="2174760"/>
            <a:ext cx="3159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加强生活护理，培养患儿生活自理能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5"/>
          <p:cNvSpPr/>
          <p:nvPr/>
        </p:nvSpPr>
        <p:spPr>
          <a:xfrm>
            <a:off x="4768920" y="1849320"/>
            <a:ext cx="3865320" cy="158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6064200" y="2327400"/>
            <a:ext cx="229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预防感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647640" y="3897360"/>
            <a:ext cx="3729240" cy="1587600"/>
          </a:xfrm>
          <a:prstGeom prst="rect">
            <a:avLst/>
          </a:prstGeom>
          <a:solidFill>
            <a:srgbClr val="324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4773600" y="3898800"/>
            <a:ext cx="3870360" cy="157824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698400" y="4227480"/>
            <a:ext cx="3176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8f8f8"/>
                </a:solidFill>
                <a:latin typeface="Arial"/>
                <a:ea typeface="宋体"/>
              </a:rPr>
              <a:t>遗传咨询及健康教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14"/>
          <p:cNvSpPr/>
          <p:nvPr/>
        </p:nvSpPr>
        <p:spPr>
          <a:xfrm>
            <a:off x="6653160" y="4303800"/>
            <a:ext cx="17366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家庭支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5505480" y="4068720"/>
            <a:ext cx="828360" cy="856800"/>
            <a:chOff x="5505480" y="4068720"/>
            <a:chExt cx="828360" cy="856800"/>
          </a:xfrm>
        </p:grpSpPr>
        <p:sp>
          <p:nvSpPr>
            <p:cNvPr id="164" name="任意多边形 16"/>
            <p:cNvSpPr/>
            <p:nvPr/>
          </p:nvSpPr>
          <p:spPr>
            <a:xfrm>
              <a:off x="5505480" y="4068720"/>
              <a:ext cx="828360" cy="85680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任意多边形 17"/>
            <p:cNvSpPr/>
            <p:nvPr/>
          </p:nvSpPr>
          <p:spPr>
            <a:xfrm>
              <a:off x="5715360" y="4339080"/>
              <a:ext cx="410400" cy="3992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组合 28"/>
          <p:cNvGrpSpPr/>
          <p:nvPr/>
        </p:nvGrpSpPr>
        <p:grpSpPr>
          <a:xfrm>
            <a:off x="5495760" y="2467080"/>
            <a:ext cx="825480" cy="853560"/>
            <a:chOff x="5495760" y="2467080"/>
            <a:chExt cx="825480" cy="853560"/>
          </a:xfrm>
        </p:grpSpPr>
        <p:sp>
          <p:nvSpPr>
            <p:cNvPr id="167" name="任意多边形 29"/>
            <p:cNvSpPr/>
            <p:nvPr/>
          </p:nvSpPr>
          <p:spPr>
            <a:xfrm>
              <a:off x="5495760" y="2467080"/>
              <a:ext cx="825480" cy="4266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任意多边形 30"/>
            <p:cNvSpPr/>
            <p:nvPr/>
          </p:nvSpPr>
          <p:spPr>
            <a:xfrm>
              <a:off x="5597640" y="2608200"/>
              <a:ext cx="310680" cy="57060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任意多边形 31"/>
            <p:cNvSpPr/>
            <p:nvPr/>
          </p:nvSpPr>
          <p:spPr>
            <a:xfrm>
              <a:off x="5495760" y="2893680"/>
              <a:ext cx="825480" cy="42696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文本框 32"/>
          <p:cNvSpPr/>
          <p:nvPr/>
        </p:nvSpPr>
        <p:spPr>
          <a:xfrm>
            <a:off x="741240" y="5683320"/>
            <a:ext cx="7656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组合 33"/>
          <p:cNvGrpSpPr/>
          <p:nvPr/>
        </p:nvGrpSpPr>
        <p:grpSpPr>
          <a:xfrm>
            <a:off x="3683160" y="2871720"/>
            <a:ext cx="1694880" cy="1743480"/>
            <a:chOff x="3683160" y="2871720"/>
            <a:chExt cx="1694880" cy="1743480"/>
          </a:xfrm>
        </p:grpSpPr>
        <p:pic>
          <p:nvPicPr>
            <p:cNvPr id="172" name="图片 34" descr="circuler_1"/>
            <p:cNvPicPr/>
            <p:nvPr/>
          </p:nvPicPr>
          <p:blipFill>
            <a:blip r:embed="rId1"/>
            <a:stretch/>
          </p:blipFill>
          <p:spPr>
            <a:xfrm>
              <a:off x="3712320" y="2904480"/>
              <a:ext cx="1636920" cy="162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椭圆 35"/>
            <p:cNvGrpSpPr/>
            <p:nvPr/>
          </p:nvGrpSpPr>
          <p:grpSpPr>
            <a:xfrm>
              <a:off x="3683160" y="2871720"/>
              <a:ext cx="1694880" cy="1703160"/>
              <a:chOff x="3683160" y="2871720"/>
              <a:chExt cx="1694880" cy="1703160"/>
            </a:xfrm>
          </p:grpSpPr>
          <p:pic>
            <p:nvPicPr>
              <p:cNvPr id="174" name="椭圆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3683160" y="2871720"/>
                <a:ext cx="1694880" cy="170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29"/>
              <p:cNvSpPr/>
              <p:nvPr/>
            </p:nvSpPr>
            <p:spPr>
              <a:xfrm>
                <a:off x="3950640" y="3143880"/>
                <a:ext cx="1149840" cy="11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任意多边形 36"/>
            <p:cNvSpPr/>
            <p:nvPr/>
          </p:nvSpPr>
          <p:spPr>
            <a:xfrm>
              <a:off x="3881160" y="2937960"/>
              <a:ext cx="1277280" cy="566280"/>
            </a:xfrm>
            <a:custGeom>
              <a:avLst/>
              <a:gdLst>
                <a:gd name="textAreaLeft" fmla="*/ 0 w 1277280"/>
                <a:gd name="textAreaRight" fmla="*/ 1277640 w 12772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组合 37"/>
            <p:cNvGrpSpPr/>
            <p:nvPr/>
          </p:nvGrpSpPr>
          <p:grpSpPr>
            <a:xfrm>
              <a:off x="3826800" y="4041360"/>
              <a:ext cx="1438560" cy="573840"/>
              <a:chOff x="3826800" y="4041360"/>
              <a:chExt cx="1438560" cy="573840"/>
            </a:xfrm>
          </p:grpSpPr>
          <p:grpSp>
            <p:nvGrpSpPr>
              <p:cNvPr id="178" name="组合 38"/>
              <p:cNvGrpSpPr/>
              <p:nvPr/>
            </p:nvGrpSpPr>
            <p:grpSpPr>
              <a:xfrm>
                <a:off x="4078440" y="4041360"/>
                <a:ext cx="1186920" cy="542160"/>
                <a:chOff x="4078440" y="4041360"/>
                <a:chExt cx="1186920" cy="542160"/>
              </a:xfrm>
            </p:grpSpPr>
            <p:sp>
              <p:nvSpPr>
                <p:cNvPr id="179" name="自选图形 39"/>
                <p:cNvSpPr/>
                <p:nvPr/>
              </p:nvSpPr>
              <p:spPr>
                <a:xfrm flipH="1" flipV="1" rot="3964800">
                  <a:off x="4722480" y="388152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自选图形 40"/>
                <p:cNvSpPr/>
                <p:nvPr/>
              </p:nvSpPr>
              <p:spPr>
                <a:xfrm flipH="1" flipV="1" rot="4780200">
                  <a:off x="4589640" y="3933720"/>
                  <a:ext cx="2109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自选图形 41"/>
                <p:cNvSpPr/>
                <p:nvPr/>
              </p:nvSpPr>
              <p:spPr>
                <a:xfrm flipH="1" flipV="1" rot="5076000">
                  <a:off x="4507560" y="3944520"/>
                  <a:ext cx="21132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自选图形 42"/>
                <p:cNvSpPr/>
                <p:nvPr/>
              </p:nvSpPr>
              <p:spPr>
                <a:xfrm flipH="1" flipV="1" rot="5608200">
                  <a:off x="4408920" y="395424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组合 43"/>
              <p:cNvGrpSpPr/>
              <p:nvPr/>
            </p:nvGrpSpPr>
            <p:grpSpPr>
              <a:xfrm>
                <a:off x="3826800" y="4046400"/>
                <a:ext cx="1184400" cy="568800"/>
                <a:chOff x="3826800" y="4046400"/>
                <a:chExt cx="1184400" cy="568800"/>
              </a:xfrm>
            </p:grpSpPr>
            <p:sp>
              <p:nvSpPr>
                <p:cNvPr id="184" name="自选图形 44"/>
                <p:cNvSpPr/>
                <p:nvPr/>
              </p:nvSpPr>
              <p:spPr>
                <a:xfrm flipH="1" flipV="1" rot="5317800">
                  <a:off x="4471560" y="395352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自选图形 45"/>
                <p:cNvSpPr/>
                <p:nvPr/>
              </p:nvSpPr>
              <p:spPr>
                <a:xfrm flipH="1" flipV="1" rot="6133800">
                  <a:off x="4327920" y="395064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自选图形 46"/>
                <p:cNvSpPr/>
                <p:nvPr/>
              </p:nvSpPr>
              <p:spPr>
                <a:xfrm flipH="1" flipV="1" rot="6429000">
                  <a:off x="4248000" y="392940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自选图形 47"/>
                <p:cNvSpPr/>
                <p:nvPr/>
              </p:nvSpPr>
              <p:spPr>
                <a:xfrm flipH="1" flipV="1" rot="6961200">
                  <a:off x="4153680" y="389952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8" name="文本框 48"/>
          <p:cNvSpPr/>
          <p:nvPr/>
        </p:nvSpPr>
        <p:spPr>
          <a:xfrm>
            <a:off x="3867120" y="3395520"/>
            <a:ext cx="1316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二节 苯丙酮尿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henyketonuria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KU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1480" y="176040"/>
            <a:ext cx="8159760" cy="719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概　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2471760"/>
            <a:ext cx="7388280" cy="265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  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PKU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是一种常见的氨基酸代谢病，是由苯丙氨酸代谢途径中酶缺陷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导致苯丙氨酸及其酮酸蓄积并从尿中大量排出。属常染色体隐性遗传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39400" y="-360"/>
            <a:ext cx="7234200" cy="1063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2840" y="1186920"/>
            <a:ext cx="8674200" cy="220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、苯丙氨酸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来源及作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必需氨基酸：食物吸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体内合成蛋白质和酪氨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769000" y="958680"/>
            <a:ext cx="3075120" cy="2084400"/>
          </a:xfrm>
          <a:prstGeom prst="wedgeRoundRectCallout">
            <a:avLst>
              <a:gd name="adj1" fmla="val -75916"/>
              <a:gd name="adj2" fmla="val 2760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儿童每日需要苯丙氨酸摄入量为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00~500mg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中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蛋白质，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代谢转化为酪氨酸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919080" y="4075200"/>
            <a:ext cx="1930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186080" y="4068720"/>
            <a:ext cx="1322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86040" y="3666960"/>
            <a:ext cx="147816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863800" y="4952880"/>
            <a:ext cx="9334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675480" y="3432240"/>
            <a:ext cx="171144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79680" y="5748480"/>
            <a:ext cx="3111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羟化酶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氢生物蝶呤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708280" y="4397400"/>
            <a:ext cx="1322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2"/>
          <p:cNvSpPr/>
          <p:nvPr/>
        </p:nvSpPr>
        <p:spPr>
          <a:xfrm flipV="1">
            <a:off x="3166920" y="4578480"/>
            <a:ext cx="295560" cy="37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5624640" y="4395960"/>
            <a:ext cx="1027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863640" y="3086280"/>
            <a:ext cx="2344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PA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途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0120" y="1644480"/>
            <a:ext cx="8601120" cy="5243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发病类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典型：肝细胞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苯丙氨酸羟化酶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H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不典型：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四氢生物喋呤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BH4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苯丙氨酸羟化过程中所必需的辅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09160" y="1158840"/>
            <a:ext cx="7029720" cy="5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经典型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 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AH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缺乏）发病机制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500280" y="307656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689880" y="3639960"/>
            <a:ext cx="186660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3954600" y="2665440"/>
            <a:ext cx="380880" cy="4111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6167520" y="2655720"/>
            <a:ext cx="1144440" cy="84168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3954600" y="2293920"/>
            <a:ext cx="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027320" y="2293920"/>
            <a:ext cx="972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03040" y="1243080"/>
            <a:ext cx="8801280" cy="551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识记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唐氏综合征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苯丙酮尿症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儿童糖尿病的定义、病因及分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先天性甲状腺功能减低症的定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1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理解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括唐氏综合征的典型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苯丙酮尿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先天性甲状腺功能减低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儿童糖尿病的发病机制、典型临床表现及治疗原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514680" y="306360"/>
            <a:ext cx="2976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656160" y="329724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767640" y="3652920"/>
            <a:ext cx="1866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肾上腺素↓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3954600" y="2665080"/>
            <a:ext cx="380880" cy="63180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6222960" y="2665440"/>
            <a:ext cx="114480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54600" y="2895480"/>
            <a:ext cx="298440" cy="26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1"/>
          <p:cNvSpPr/>
          <p:nvPr/>
        </p:nvSpPr>
        <p:spPr>
          <a:xfrm>
            <a:off x="3889440" y="2976480"/>
            <a:ext cx="298440" cy="26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5545080" y="2976480"/>
            <a:ext cx="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4930920" y="3941640"/>
            <a:ext cx="1914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巴胺↓　５羟色胺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643040" y="882720"/>
            <a:ext cx="697068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非经典型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PKU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（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BH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４缺乏）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63040" y="379080"/>
            <a:ext cx="8402760" cy="94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临床表现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1400" y="1747440"/>
            <a:ext cx="7664400" cy="3460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临床症状常在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～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个月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开始出现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智力低下（最突出表现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色素减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有鼠臭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PKU2"/>
          <p:cNvPicPr/>
          <p:nvPr/>
        </p:nvPicPr>
        <p:blipFill>
          <a:blip r:embed="rId1"/>
          <a:stretch/>
        </p:blipFill>
        <p:spPr>
          <a:xfrm>
            <a:off x="182520" y="4379760"/>
            <a:ext cx="2131920" cy="2859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KU3"/>
          <p:cNvPicPr/>
          <p:nvPr/>
        </p:nvPicPr>
        <p:blipFill>
          <a:blip r:embed="rId2"/>
          <a:stretch/>
        </p:blipFill>
        <p:spPr>
          <a:xfrm>
            <a:off x="231624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20080306161642397"/>
          <p:cNvPicPr/>
          <p:nvPr/>
        </p:nvPicPr>
        <p:blipFill>
          <a:blip r:embed="rId3"/>
          <a:srcRect l="0" t="0" r="0" b="6791"/>
          <a:stretch/>
        </p:blipFill>
        <p:spPr>
          <a:xfrm>
            <a:off x="466740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2256974_225413534147_2"/>
          <p:cNvPicPr/>
          <p:nvPr/>
        </p:nvPicPr>
        <p:blipFill>
          <a:blip r:embed="rId4"/>
          <a:stretch/>
        </p:blipFill>
        <p:spPr>
          <a:xfrm>
            <a:off x="7093080" y="4379760"/>
            <a:ext cx="20588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未经治疗</a:t>
            </a:r>
            <a:r>
              <a:rPr b="0" i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患者所生子女</a:t>
            </a:r>
            <a:endParaRPr b="1" i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82520" y="2205000"/>
            <a:ext cx="4390920" cy="968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1000"/>
          </a:bodyPr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头畸形、智力低下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长落后、心脏畸形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6357960" y="1263600"/>
            <a:ext cx="2057400" cy="1444680"/>
          </a:xfrm>
          <a:prstGeom prst="cloudCallout">
            <a:avLst>
              <a:gd name="adj1" fmla="val -79449"/>
              <a:gd name="adj2" fmla="val 751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白肤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 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金发 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碧眼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6" descr="2011617131535512"/>
          <p:cNvPicPr/>
          <p:nvPr/>
        </p:nvPicPr>
        <p:blipFill>
          <a:blip r:embed="rId1"/>
          <a:stretch/>
        </p:blipFill>
        <p:spPr>
          <a:xfrm>
            <a:off x="1859040" y="3548160"/>
            <a:ext cx="55879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255600" y="1795320"/>
          <a:ext cx="376704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795320"/>
                    <a:ext cx="376704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1322280" y="642960"/>
            <a:ext cx="6378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3300480" y="200160"/>
            <a:ext cx="208764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湿 疹 样 皮 疹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>
            <a:hlinkClick r:id="rId3" action="ppaction://hlinksldjump"/>
          </p:cNvPr>
          <p:cNvSpPr/>
          <p:nvPr/>
        </p:nvSpPr>
        <p:spPr>
          <a:xfrm>
            <a:off x="8121600" y="6508800"/>
            <a:ext cx="809640" cy="455400"/>
          </a:xfrm>
          <a:custGeom>
            <a:avLst/>
            <a:gdLst>
              <a:gd name="textAreaLeft" fmla="*/ 29520 w 809640"/>
              <a:gd name="textAreaRight" fmla="*/ 780120 w 809640"/>
              <a:gd name="textAreaTop" fmla="*/ 29520 h 455400"/>
              <a:gd name="textAreaBottom" fmla="*/ 425880 h 455400"/>
            </a:gdLst>
            <a:ahLst/>
            <a:rect l="textAreaLeft" t="textAreaTop" r="textAreaRight" b="textAreaBottom"/>
            <a:pathLst>
              <a:path w="38389" h="21600">
                <a:moveTo>
                  <a:pt x="0" y="0"/>
                </a:moveTo>
                <a:lnTo>
                  <a:pt x="38389" y="0"/>
                </a:lnTo>
                <a:lnTo>
                  <a:pt x="38389" y="21600"/>
                </a:lnTo>
                <a:lnTo>
                  <a:pt x="0" y="21600"/>
                </a:lnTo>
                <a:close/>
              </a:path>
              <a:path fill="lightenLess" w="38389" h="21600">
                <a:moveTo>
                  <a:pt x="0" y="0"/>
                </a:moveTo>
                <a:lnTo>
                  <a:pt x="38389" y="0"/>
                </a:lnTo>
                <a:lnTo>
                  <a:pt x="36989" y="1400"/>
                </a:lnTo>
                <a:lnTo>
                  <a:pt x="1400" y="1400"/>
                </a:lnTo>
                <a:close/>
              </a:path>
              <a:path fill="darken" w="38389" h="21600">
                <a:moveTo>
                  <a:pt x="38389" y="0"/>
                </a:moveTo>
                <a:lnTo>
                  <a:pt x="38389" y="21600"/>
                </a:lnTo>
                <a:lnTo>
                  <a:pt x="36989" y="20200"/>
                </a:lnTo>
                <a:lnTo>
                  <a:pt x="36989" y="1400"/>
                </a:lnTo>
                <a:close/>
              </a:path>
              <a:path fill="darkenLess" w="38389" h="21600">
                <a:moveTo>
                  <a:pt x="3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9" y="20200"/>
                </a:lnTo>
                <a:close/>
              </a:path>
              <a:path fill="lighten" w="3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89" h="21600">
                <a:moveTo>
                  <a:pt x="12188" y="3794"/>
                </a:moveTo>
                <a:lnTo>
                  <a:pt x="26201" y="10800"/>
                </a:lnTo>
                <a:lnTo>
                  <a:pt x="12188" y="178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4"/>
          <a:stretch/>
        </p:blipFill>
        <p:spPr>
          <a:xfrm>
            <a:off x="5035680" y="1795320"/>
            <a:ext cx="3522600" cy="44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  <a:ea typeface="隶书"/>
              </a:rPr>
              <a:t>诊 断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4"/>
          <p:cNvSpPr/>
          <p:nvPr/>
        </p:nvSpPr>
        <p:spPr>
          <a:xfrm>
            <a:off x="2643120" y="1990800"/>
            <a:ext cx="3810240" cy="38574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组合 5"/>
          <p:cNvGrpSpPr/>
          <p:nvPr/>
        </p:nvGrpSpPr>
        <p:grpSpPr>
          <a:xfrm>
            <a:off x="3581280" y="2955960"/>
            <a:ext cx="1941480" cy="2076480"/>
            <a:chOff x="3581280" y="2955960"/>
            <a:chExt cx="1941480" cy="2076480"/>
          </a:xfrm>
        </p:grpSpPr>
        <p:sp>
          <p:nvSpPr>
            <p:cNvPr id="272" name="椭圆 6"/>
            <p:cNvSpPr/>
            <p:nvPr/>
          </p:nvSpPr>
          <p:spPr>
            <a:xfrm>
              <a:off x="3581280" y="2955960"/>
              <a:ext cx="1941480" cy="2076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任意多边形 7"/>
            <p:cNvSpPr/>
            <p:nvPr/>
          </p:nvSpPr>
          <p:spPr>
            <a:xfrm>
              <a:off x="3803040" y="2990160"/>
              <a:ext cx="1497600" cy="783720"/>
            </a:xfrm>
            <a:custGeom>
              <a:avLst/>
              <a:gdLst>
                <a:gd name="textAreaLeft" fmla="*/ 0 w 1497600"/>
                <a:gd name="textAreaRight" fmla="*/ 1497960 w 14976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文本框 8"/>
          <p:cNvSpPr/>
          <p:nvPr/>
        </p:nvSpPr>
        <p:spPr>
          <a:xfrm>
            <a:off x="4116600" y="3772080"/>
            <a:ext cx="952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宋体"/>
              </a:rPr>
              <a:t>辅助检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组合 9"/>
          <p:cNvGrpSpPr/>
          <p:nvPr/>
        </p:nvGrpSpPr>
        <p:grpSpPr>
          <a:xfrm>
            <a:off x="4157640" y="1620720"/>
            <a:ext cx="649440" cy="641520"/>
            <a:chOff x="4157640" y="1620720"/>
            <a:chExt cx="649440" cy="641520"/>
          </a:xfrm>
        </p:grpSpPr>
        <p:grpSp>
          <p:nvGrpSpPr>
            <p:cNvPr id="276" name="组合 10"/>
            <p:cNvGrpSpPr/>
            <p:nvPr/>
          </p:nvGrpSpPr>
          <p:grpSpPr>
            <a:xfrm>
              <a:off x="4157640" y="1620720"/>
              <a:ext cx="649440" cy="641520"/>
              <a:chOff x="4157640" y="1620720"/>
              <a:chExt cx="649440" cy="641520"/>
            </a:xfrm>
          </p:grpSpPr>
          <p:sp>
            <p:nvSpPr>
              <p:cNvPr id="277" name="椭圆 11"/>
              <p:cNvSpPr/>
              <p:nvPr/>
            </p:nvSpPr>
            <p:spPr>
              <a:xfrm>
                <a:off x="4157640" y="1620720"/>
                <a:ext cx="649440" cy="6415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d483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任意多边形 12"/>
              <p:cNvSpPr/>
              <p:nvPr/>
            </p:nvSpPr>
            <p:spPr>
              <a:xfrm>
                <a:off x="4231800" y="1631160"/>
                <a:ext cx="501120" cy="241920"/>
              </a:xfrm>
              <a:custGeom>
                <a:avLst/>
                <a:gdLst>
                  <a:gd name="textAreaLeft" fmla="*/ 0 w 501120"/>
                  <a:gd name="textAreaRight" fmla="*/ 501480 w 50112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文本框 13"/>
            <p:cNvSpPr/>
            <p:nvPr/>
          </p:nvSpPr>
          <p:spPr>
            <a:xfrm>
              <a:off x="4293720" y="1719360"/>
              <a:ext cx="409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组合 14"/>
          <p:cNvGrpSpPr/>
          <p:nvPr/>
        </p:nvGrpSpPr>
        <p:grpSpPr>
          <a:xfrm>
            <a:off x="3527280" y="4820760"/>
            <a:ext cx="349200" cy="322200"/>
            <a:chOff x="3527280" y="4820760"/>
            <a:chExt cx="349200" cy="322200"/>
          </a:xfrm>
        </p:grpSpPr>
        <p:sp>
          <p:nvSpPr>
            <p:cNvPr id="281" name="椭圆 15"/>
            <p:cNvSpPr/>
            <p:nvPr/>
          </p:nvSpPr>
          <p:spPr>
            <a:xfrm rot="18226800">
              <a:off x="3553200" y="4988880"/>
              <a:ext cx="126360" cy="1303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椭圆 16"/>
            <p:cNvSpPr/>
            <p:nvPr/>
          </p:nvSpPr>
          <p:spPr>
            <a:xfrm rot="18226800">
              <a:off x="3724200" y="4844160"/>
              <a:ext cx="126360" cy="1299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280" bIns="442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组合 17"/>
          <p:cNvGrpSpPr/>
          <p:nvPr/>
        </p:nvGrpSpPr>
        <p:grpSpPr>
          <a:xfrm>
            <a:off x="2932200" y="5102280"/>
            <a:ext cx="647640" cy="666720"/>
            <a:chOff x="2932200" y="5102280"/>
            <a:chExt cx="647640" cy="666720"/>
          </a:xfrm>
        </p:grpSpPr>
        <p:grpSp>
          <p:nvGrpSpPr>
            <p:cNvPr id="284" name="组合 18"/>
            <p:cNvGrpSpPr/>
            <p:nvPr/>
          </p:nvGrpSpPr>
          <p:grpSpPr>
            <a:xfrm>
              <a:off x="2932200" y="5102280"/>
              <a:ext cx="647640" cy="666720"/>
              <a:chOff x="2932200" y="5102280"/>
              <a:chExt cx="647640" cy="666720"/>
            </a:xfrm>
          </p:grpSpPr>
          <p:sp>
            <p:nvSpPr>
              <p:cNvPr id="285" name="椭圆 19"/>
              <p:cNvSpPr/>
              <p:nvPr/>
            </p:nvSpPr>
            <p:spPr>
              <a:xfrm>
                <a:off x="2932200" y="5102280"/>
                <a:ext cx="647640" cy="6667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任意多边形 20"/>
              <p:cNvSpPr/>
              <p:nvPr/>
            </p:nvSpPr>
            <p:spPr>
              <a:xfrm>
                <a:off x="3006000" y="5113080"/>
                <a:ext cx="499680" cy="25164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文本框 21"/>
            <p:cNvSpPr/>
            <p:nvPr/>
          </p:nvSpPr>
          <p:spPr>
            <a:xfrm>
              <a:off x="3038400" y="5227560"/>
              <a:ext cx="424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组合 22"/>
          <p:cNvGrpSpPr/>
          <p:nvPr/>
        </p:nvGrpSpPr>
        <p:grpSpPr>
          <a:xfrm>
            <a:off x="6110280" y="2955960"/>
            <a:ext cx="642960" cy="674640"/>
            <a:chOff x="6110280" y="2955960"/>
            <a:chExt cx="642960" cy="674640"/>
          </a:xfrm>
        </p:grpSpPr>
        <p:grpSp>
          <p:nvGrpSpPr>
            <p:cNvPr id="289" name="组合 23"/>
            <p:cNvGrpSpPr/>
            <p:nvPr/>
          </p:nvGrpSpPr>
          <p:grpSpPr>
            <a:xfrm>
              <a:off x="6110280" y="2955960"/>
              <a:ext cx="642960" cy="674640"/>
              <a:chOff x="6110280" y="2955960"/>
              <a:chExt cx="642960" cy="674640"/>
            </a:xfrm>
          </p:grpSpPr>
          <p:sp>
            <p:nvSpPr>
              <p:cNvPr id="290" name="椭圆 24"/>
              <p:cNvSpPr/>
              <p:nvPr/>
            </p:nvSpPr>
            <p:spPr>
              <a:xfrm>
                <a:off x="6110280" y="2955960"/>
                <a:ext cx="642960" cy="6746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f5f9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任意多边形 25"/>
              <p:cNvSpPr/>
              <p:nvPr/>
            </p:nvSpPr>
            <p:spPr>
              <a:xfrm>
                <a:off x="6183720" y="2967120"/>
                <a:ext cx="496080" cy="254520"/>
              </a:xfrm>
              <a:custGeom>
                <a:avLst/>
                <a:gdLst>
                  <a:gd name="textAreaLeft" fmla="*/ 0 w 496080"/>
                  <a:gd name="textAreaRight" fmla="*/ 496440 w 49608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文本框 26"/>
            <p:cNvSpPr/>
            <p:nvPr/>
          </p:nvSpPr>
          <p:spPr>
            <a:xfrm>
              <a:off x="6222240" y="3048480"/>
              <a:ext cx="4035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组合 27"/>
          <p:cNvGrpSpPr/>
          <p:nvPr/>
        </p:nvGrpSpPr>
        <p:grpSpPr>
          <a:xfrm>
            <a:off x="5529240" y="5105520"/>
            <a:ext cx="617400" cy="606240"/>
            <a:chOff x="5529240" y="5105520"/>
            <a:chExt cx="617400" cy="606240"/>
          </a:xfrm>
        </p:grpSpPr>
        <p:grpSp>
          <p:nvGrpSpPr>
            <p:cNvPr id="294" name="组合 28"/>
            <p:cNvGrpSpPr/>
            <p:nvPr/>
          </p:nvGrpSpPr>
          <p:grpSpPr>
            <a:xfrm>
              <a:off x="5529240" y="5105520"/>
              <a:ext cx="617400" cy="606240"/>
              <a:chOff x="5529240" y="5105520"/>
              <a:chExt cx="617400" cy="606240"/>
            </a:xfrm>
          </p:grpSpPr>
          <p:sp>
            <p:nvSpPr>
              <p:cNvPr id="295" name="椭圆 29"/>
              <p:cNvSpPr/>
              <p:nvPr/>
            </p:nvSpPr>
            <p:spPr>
              <a:xfrm>
                <a:off x="5529240" y="5105520"/>
                <a:ext cx="617400" cy="6062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任意多边形 30"/>
              <p:cNvSpPr/>
              <p:nvPr/>
            </p:nvSpPr>
            <p:spPr>
              <a:xfrm>
                <a:off x="5599800" y="5115240"/>
                <a:ext cx="476280" cy="22860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文本框 31"/>
            <p:cNvSpPr/>
            <p:nvPr/>
          </p:nvSpPr>
          <p:spPr>
            <a:xfrm>
              <a:off x="5676480" y="5137920"/>
              <a:ext cx="3913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组合 32"/>
          <p:cNvGrpSpPr/>
          <p:nvPr/>
        </p:nvGrpSpPr>
        <p:grpSpPr>
          <a:xfrm>
            <a:off x="2427120" y="2955960"/>
            <a:ext cx="648000" cy="666720"/>
            <a:chOff x="2427120" y="2955960"/>
            <a:chExt cx="648000" cy="666720"/>
          </a:xfrm>
        </p:grpSpPr>
        <p:grpSp>
          <p:nvGrpSpPr>
            <p:cNvPr id="299" name="组合 33"/>
            <p:cNvGrpSpPr/>
            <p:nvPr/>
          </p:nvGrpSpPr>
          <p:grpSpPr>
            <a:xfrm>
              <a:off x="2427120" y="2955960"/>
              <a:ext cx="648000" cy="666720"/>
              <a:chOff x="2427120" y="2955960"/>
              <a:chExt cx="648000" cy="666720"/>
            </a:xfrm>
          </p:grpSpPr>
          <p:sp>
            <p:nvSpPr>
              <p:cNvPr id="300" name="椭圆 34"/>
              <p:cNvSpPr/>
              <p:nvPr/>
            </p:nvSpPr>
            <p:spPr>
              <a:xfrm>
                <a:off x="2427120" y="2955960"/>
                <a:ext cx="648000" cy="666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653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任意多边形 35"/>
              <p:cNvSpPr/>
              <p:nvPr/>
            </p:nvSpPr>
            <p:spPr>
              <a:xfrm>
                <a:off x="2500920" y="2966760"/>
                <a:ext cx="500040" cy="251640"/>
              </a:xfrm>
              <a:custGeom>
                <a:avLst/>
                <a:gdLst>
                  <a:gd name="textAreaLeft" fmla="*/ 0 w 500040"/>
                  <a:gd name="textAreaRight" fmla="*/ 500400 w 50004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文本框 36"/>
            <p:cNvSpPr/>
            <p:nvPr/>
          </p:nvSpPr>
          <p:spPr>
            <a:xfrm>
              <a:off x="2579760" y="3030120"/>
              <a:ext cx="366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椭圆 37"/>
          <p:cNvSpPr/>
          <p:nvPr/>
        </p:nvSpPr>
        <p:spPr>
          <a:xfrm rot="18226800">
            <a:off x="5456880" y="4955040"/>
            <a:ext cx="12708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椭圆 38"/>
          <p:cNvSpPr/>
          <p:nvPr/>
        </p:nvSpPr>
        <p:spPr>
          <a:xfrm rot="18226800">
            <a:off x="5311800" y="4806720"/>
            <a:ext cx="12852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组合 39"/>
          <p:cNvGrpSpPr/>
          <p:nvPr/>
        </p:nvGrpSpPr>
        <p:grpSpPr>
          <a:xfrm>
            <a:off x="3123720" y="3375000"/>
            <a:ext cx="394200" cy="250200"/>
            <a:chOff x="3123720" y="3375000"/>
            <a:chExt cx="394200" cy="250200"/>
          </a:xfrm>
        </p:grpSpPr>
        <p:sp>
          <p:nvSpPr>
            <p:cNvPr id="306" name="椭圆 40"/>
            <p:cNvSpPr/>
            <p:nvPr/>
          </p:nvSpPr>
          <p:spPr>
            <a:xfrm rot="18226800">
              <a:off x="3149640" y="3398400"/>
              <a:ext cx="12600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5698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椭圆 41"/>
            <p:cNvSpPr/>
            <p:nvPr/>
          </p:nvSpPr>
          <p:spPr>
            <a:xfrm rot="18226800">
              <a:off x="3365640" y="3471480"/>
              <a:ext cx="12564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a597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组合 42"/>
          <p:cNvGrpSpPr/>
          <p:nvPr/>
        </p:nvGrpSpPr>
        <p:grpSpPr>
          <a:xfrm>
            <a:off x="4422960" y="2378880"/>
            <a:ext cx="179640" cy="452880"/>
            <a:chOff x="4422960" y="2378880"/>
            <a:chExt cx="179640" cy="452880"/>
          </a:xfrm>
        </p:grpSpPr>
        <p:sp>
          <p:nvSpPr>
            <p:cNvPr id="309" name="椭圆 43"/>
            <p:cNvSpPr/>
            <p:nvPr/>
          </p:nvSpPr>
          <p:spPr>
            <a:xfrm rot="18226800">
              <a:off x="4449600" y="240192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f4e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椭圆 44"/>
            <p:cNvSpPr/>
            <p:nvPr/>
          </p:nvSpPr>
          <p:spPr>
            <a:xfrm rot="18226800">
              <a:off x="4449600" y="267660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225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椭圆 45"/>
          <p:cNvSpPr/>
          <p:nvPr/>
        </p:nvSpPr>
        <p:spPr>
          <a:xfrm rot="18226800">
            <a:off x="5835600" y="3427200"/>
            <a:ext cx="126720" cy="1270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2840" bIns="4284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椭圆 46"/>
          <p:cNvSpPr/>
          <p:nvPr/>
        </p:nvSpPr>
        <p:spPr>
          <a:xfrm rot="18226800">
            <a:off x="5602320" y="3546720"/>
            <a:ext cx="125280" cy="1285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47"/>
          <p:cNvSpPr/>
          <p:nvPr/>
        </p:nvSpPr>
        <p:spPr>
          <a:xfrm>
            <a:off x="623880" y="310356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文本框 48"/>
          <p:cNvSpPr/>
          <p:nvPr/>
        </p:nvSpPr>
        <p:spPr>
          <a:xfrm>
            <a:off x="3638520" y="111132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筛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文本框 49"/>
          <p:cNvSpPr/>
          <p:nvPr/>
        </p:nvSpPr>
        <p:spPr>
          <a:xfrm>
            <a:off x="6754680" y="3117960"/>
            <a:ext cx="2028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尿三氯化铁试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文本框 50"/>
          <p:cNvSpPr/>
          <p:nvPr/>
        </p:nvSpPr>
        <p:spPr>
          <a:xfrm>
            <a:off x="985680" y="5329080"/>
            <a:ext cx="1795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脑电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文本框 51"/>
          <p:cNvSpPr/>
          <p:nvPr/>
        </p:nvSpPr>
        <p:spPr>
          <a:xfrm>
            <a:off x="6176880" y="5329080"/>
            <a:ext cx="260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血游离氨基酸、有机酸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6200" spc="-1" strike="noStrike">
                <a:solidFill>
                  <a:srgbClr val="ff0000"/>
                </a:solidFill>
                <a:latin typeface="Arial"/>
                <a:ea typeface="隶书"/>
              </a:rPr>
              <a:t>诊断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01320" y="2146320"/>
            <a:ext cx="7597800" cy="3548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2000"/>
          </a:bodyPr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新生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Guthrie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细菌抑制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婴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三氯化铁试验；（初筛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硝基苯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确诊试验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血清苯丙氨酸和酪氨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生化定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携带者检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他诊断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77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8" dur="77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0" dur="77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2" dur="77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5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777960" y="1770120"/>
            <a:ext cx="8183520" cy="3651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低苯丙氨酸饮食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羟色氨酸和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-DOPA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10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22440" y="1316160"/>
            <a:ext cx="8183520" cy="503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生长发育迟缓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高浓度的苯丙氨酸导致脑细胞受损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有皮肤完整性受损的危险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皮肤异常分泌物的刺激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患儿疾病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933120" y="1770120"/>
            <a:ext cx="715644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低苯丙氨酸饮食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皮肤护理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保持清洁干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家庭支持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4978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三节 先天性甲状腺功能减退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congenital hypothyroidis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98400" y="210024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运用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唐氏综合征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苯丙酮尿症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儿童糖尿病的相关知识为患儿制订护理计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269880" y="1111320"/>
            <a:ext cx="2732040" cy="58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160200"/>
            <a:ext cx="9334440" cy="852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先天性甲状腺功能减退症</a:t>
            </a:r>
            <a:br>
              <a:rPr sz="3700"/>
            </a:b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18680" y="1027080"/>
            <a:ext cx="8425080" cy="544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先天性或者遗传因素引起甲状腺发育障碍、激素合成障碍，分泌减少，导致患儿生长障碍，智能落后，此病又称为呆小病或克汀病，是小儿最常见的内分泌疾病。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与发病机制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散发性先天性甲低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16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  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地方性先天性甲低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1125360"/>
            <a:ext cx="9256680" cy="56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甲状腺素生理作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三大物质新陈代谢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中枢神经系统的生长发育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新生儿甲低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婴幼儿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出生半年后出现，特殊面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地方性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神经性”综合征、“黏液水肿性”综合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66200" y="1528920"/>
            <a:ext cx="8634600" cy="490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新生儿筛查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出生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~3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天   干血滴纸片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血清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5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降低，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S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明显增高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骨龄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R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刺激试验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 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鉴别下丘脑或垂体性甲低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甲状腺扫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基础代谢率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10680" y="1206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治疗原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早期治疗，终身用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小剂量开始，逐渐加至足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定期复查，维持甲状腺正常功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药物治疗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左旋甲状腺素纳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L- T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933120" y="1608120"/>
            <a:ext cx="6767640" cy="4054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评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健康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身体状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心理</a:t>
            </a:r>
            <a:r>
              <a:rPr b="0" lang="en-US" sz="29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社会状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44680" y="1447920"/>
            <a:ext cx="8556480" cy="490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体温过低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代谢率低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喂养困难、食欲差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便秘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肌张力低下、活动量少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生长发育迟缓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甲状腺素合成不足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父母缺乏有关疾病的知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22440" y="1608120"/>
            <a:ext cx="8183520" cy="4424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预期目标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体温保持正常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营养均衡，体重增加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大便通畅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能掌握基本生活技能，无意外伤害发生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825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及其父母掌握正确服药方法及药效观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22440" y="1206360"/>
            <a:ext cx="8183520" cy="5067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暖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证营养供给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持大便通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加强行为训练，提高自理能力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指导用药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宣传新生儿筛查的重要性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四节 儿童糖尿病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iabetes mellitus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" y="80640"/>
            <a:ext cx="8982000" cy="803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100" spc="-1" strike="noStrike">
                <a:solidFill>
                  <a:srgbClr val="000000"/>
                </a:solidFill>
                <a:latin typeface="Arial"/>
              </a:rPr>
              <a:t>儿童糖尿病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iabetes mellitus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M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200" y="1366560"/>
            <a:ext cx="847908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 algn="just">
              <a:lnSpc>
                <a:spcPct val="12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是由于胰岛素绝对或相对缺乏引起的糖、脂肪、蛋白质代谢紊乱，致使血糖增高、尿糖增加的一种病症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分类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胰岛素依赖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非胰岛素依赖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其他类型</a:t>
            </a:r>
            <a:r>
              <a:rPr b="0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一节 唐氏综合征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TRISOMY 21 SYNDROM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遗传易感性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自身免疫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环境因素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620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临床表现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一般表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典型症状 “三多一少”即多尿、多饮、多食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体重下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特殊的自然病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急性代谢紊乱期        暂时缓解期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711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强化期                永久糖尿病期</a:t>
            </a: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1068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尿液检查  尿糖阳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糖监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耐量试验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OGTT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化血红蛋白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HbA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华文中宋"/>
              </a:rPr>
              <a:t>1C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检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气分析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其他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535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胰岛素治疗</a:t>
            </a:r>
            <a:r>
              <a:rPr b="0" lang="zh-CN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主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运动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糖尿病酮症酸中毒处理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液体疗法       胰岛素应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10680" y="1607760"/>
            <a:ext cx="8867880" cy="4987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9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胰岛素缺乏所致代谢紊乱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潜在并发症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酮症酸中毒、低血糖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有感染的危险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蛋白质代谢紊乱所致抵抗力低下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及家长缺乏糖尿病控制的有关知识和技能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8440" y="1046160"/>
            <a:ext cx="8556840" cy="530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每日所需能量（卡）：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0 +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（年龄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×8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指导胰岛素使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胰岛素的注射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监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注意事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00200" y="1366560"/>
            <a:ext cx="818352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 fontScale="83000"/>
          </a:bodyPr>
          <a:p>
            <a:pPr lvl="1" marL="639000" indent="-246240">
              <a:lnSpc>
                <a:spcPct val="140000"/>
              </a:lnSpc>
              <a:spcBef>
                <a:spcPts val="1276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4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运动锻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防治糖尿病酮症酸中毒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感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并发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心理支持</a:t>
            </a:r>
            <a:r>
              <a:rPr b="1" lang="zh-CN" sz="27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思考题及参考答案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848960"/>
            <a:ext cx="8416800" cy="4746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思考题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如何做好糖尿病患儿的饮食护理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参考答案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摄入量需适合患儿的年龄、生长发育和日常活动的需要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000 +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（年龄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×80~100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cal/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碳水化合物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蛋白质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脂肪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早、午、晚分别占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根据病情变化适当调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0000"/>
                </a:solidFill>
                <a:latin typeface="Arial"/>
                <a:ea typeface="宋体"/>
              </a:rPr>
              <a:t>指挥家舟舟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4" name="Picture 4" descr="622762d0f703918f9b28fbb6513d269758eec4d5"/>
          <p:cNvPicPr/>
          <p:nvPr/>
        </p:nvPicPr>
        <p:blipFill>
          <a:blip r:embed="rId1"/>
          <a:stretch/>
        </p:blipFill>
        <p:spPr>
          <a:xfrm>
            <a:off x="550800" y="1111320"/>
            <a:ext cx="79009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黑体"/>
              </a:rPr>
              <a:t>唐氏综合征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6320" y="153180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5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氏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称先天愚型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常染色体畸变，是小儿染色体病中最常见的一种，主要临床特征是特殊面容、身体和智力发育差，并可伴发多发畸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婴中发生率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/(1000~60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母亲年龄愈大，本病的发病率愈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病  因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"/>
          <p:cNvGrpSpPr/>
          <p:nvPr/>
        </p:nvGrpSpPr>
        <p:grpSpPr>
          <a:xfrm>
            <a:off x="1309680" y="1644480"/>
            <a:ext cx="3450600" cy="3296880"/>
            <a:chOff x="1309680" y="1644480"/>
            <a:chExt cx="3450600" cy="3296880"/>
          </a:xfrm>
        </p:grpSpPr>
        <p:sp>
          <p:nvSpPr>
            <p:cNvPr id="91" name="自选图形 4"/>
            <p:cNvSpPr/>
            <p:nvPr/>
          </p:nvSpPr>
          <p:spPr>
            <a:xfrm>
              <a:off x="1309680" y="2529000"/>
              <a:ext cx="342216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8900000"/>
            </a:gradFill>
            <a:ln w="50760">
              <a:solidFill>
                <a:srgbClr val="7099e2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组合 5"/>
            <p:cNvGrpSpPr/>
            <p:nvPr/>
          </p:nvGrpSpPr>
          <p:grpSpPr>
            <a:xfrm>
              <a:off x="3953880" y="1644480"/>
              <a:ext cx="806400" cy="2085480"/>
              <a:chOff x="3953880" y="1644480"/>
              <a:chExt cx="806400" cy="2085480"/>
            </a:xfrm>
          </p:grpSpPr>
          <p:sp>
            <p:nvSpPr>
              <p:cNvPr id="93" name="任意多边形 6"/>
              <p:cNvSpPr/>
              <p:nvPr/>
            </p:nvSpPr>
            <p:spPr>
              <a:xfrm>
                <a:off x="41497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任意多边形 7"/>
              <p:cNvSpPr/>
              <p:nvPr/>
            </p:nvSpPr>
            <p:spPr>
              <a:xfrm>
                <a:off x="39538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文本框 8"/>
          <p:cNvSpPr/>
          <p:nvPr/>
        </p:nvSpPr>
        <p:spPr>
          <a:xfrm>
            <a:off x="1873080" y="3316320"/>
            <a:ext cx="22687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组合 9"/>
          <p:cNvGrpSpPr/>
          <p:nvPr/>
        </p:nvGrpSpPr>
        <p:grpSpPr>
          <a:xfrm>
            <a:off x="4888080" y="1644480"/>
            <a:ext cx="3444480" cy="3296880"/>
            <a:chOff x="4888080" y="1644480"/>
            <a:chExt cx="3444480" cy="3296880"/>
          </a:xfrm>
        </p:grpSpPr>
        <p:sp>
          <p:nvSpPr>
            <p:cNvPr id="97" name="自选图形 10"/>
            <p:cNvSpPr/>
            <p:nvPr/>
          </p:nvSpPr>
          <p:spPr>
            <a:xfrm>
              <a:off x="4910760" y="2529000"/>
              <a:ext cx="342180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2700000"/>
            </a:gradFill>
            <a:ln w="5076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文本框 11"/>
            <p:cNvSpPr/>
            <p:nvPr/>
          </p:nvSpPr>
          <p:spPr>
            <a:xfrm>
              <a:off x="5665680" y="2770200"/>
              <a:ext cx="2643840" cy="11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致畸变物质及疾病的影响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组合 12"/>
            <p:cNvGrpSpPr/>
            <p:nvPr/>
          </p:nvGrpSpPr>
          <p:grpSpPr>
            <a:xfrm>
              <a:off x="4888080" y="1644480"/>
              <a:ext cx="806400" cy="2085480"/>
              <a:chOff x="4888080" y="1644480"/>
              <a:chExt cx="806400" cy="2085480"/>
            </a:xfrm>
          </p:grpSpPr>
          <p:sp>
            <p:nvSpPr>
              <p:cNvPr id="100" name="任意多边形 13"/>
              <p:cNvSpPr/>
              <p:nvPr/>
            </p:nvSpPr>
            <p:spPr>
              <a:xfrm>
                <a:off x="50839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任意多边形 14"/>
              <p:cNvSpPr/>
              <p:nvPr/>
            </p:nvSpPr>
            <p:spPr>
              <a:xfrm>
                <a:off x="48880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Rectangle 17"/>
          <p:cNvSpPr/>
          <p:nvPr/>
        </p:nvSpPr>
        <p:spPr>
          <a:xfrm>
            <a:off x="1027080" y="5216400"/>
            <a:ext cx="8307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生殖细胞在减数分裂过程中，由于某些因素的影响发生不分离所致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754200"/>
            <a:ext cx="5211720" cy="85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母亲妊娠年龄的影响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a"/>
          <p:cNvPicPr/>
          <p:nvPr/>
        </p:nvPicPr>
        <p:blipFill>
          <a:blip r:embed="rId1"/>
          <a:srcRect l="0" t="10476" r="0" b="0"/>
          <a:stretch/>
        </p:blipFill>
        <p:spPr>
          <a:xfrm>
            <a:off x="255600" y="1566720"/>
            <a:ext cx="8809200" cy="4637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316240" y="6280200"/>
            <a:ext cx="4748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楷体_GB2312"/>
              </a:rPr>
              <a:t>随孕母的年龄增大而发生率增高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122640" y="200160"/>
            <a:ext cx="418932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病  因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6T13:23:06Z</dcterms:modified>
  <cp:revision>89</cp:revision>
  <dc:subject/>
  <dc:title>幻灯片 1</dc:title>
</cp:coreProperties>
</file>